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467-46BD-47AD-9EC3-9A1DDFAF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519-C93D-413E-92BD-2EE8C667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1A0-4D40-4FEC-A1BE-13EE7379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7DD-BCCE-4004-8F7F-E3F25F93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CCE-6445-4148-91AE-E9EF07A7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574-62C2-4006-BF1C-B12300BC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273-F7DC-4B97-9BCF-2488AEFC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069-1DF2-4E41-A7A6-D0D9B553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4E8-D1F5-480F-9AB7-9BFFC5A6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89B-3B57-4BBA-A54F-7D1FB9E4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E95-0902-4B97-9348-80951223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5BE-AD1D-4CCB-A12E-B2670824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ED16E-E76E-4EB0-80F1-9906E22F31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C6A11-18B2-4B91-A032-079E3652F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e Fast Food Ga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32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much do you know about American’s favorite fast foo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What percent of Americans claim to eat pizza regular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4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What percent of Americans claim to eat pizza regular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4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Which is these ice cream flavors are NOT in the top 15 favorites of American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colate Alm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colate C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colate M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Which is these ice cream flavors are NOT in the top 15 favorites of American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colate Alm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colate C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ocolate M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How many donuts are produced in the US per wee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44,7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65,3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33,8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How many donuts are produced in the US per wee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4,7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65,3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33,8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Burgers are a favorite food of many Americans. How many burgers are eaten a year by American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b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 b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3 m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Burgers are a favorite food of many Americans. How many burgers are eaten a year by American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b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3 b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3 m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hich topping do most adults prefer on their hot do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tch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hich topping do most adults prefer on their hot do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st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tch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w many pounds of French fries does an average American consume in a ye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w many pounds of French fries does an average American consume in a ye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What is the top selling cookie in Americ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ps Aho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tter Bu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e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What is the top selling cookie in Americ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86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ps Aho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tter Bu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e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22:05:20Z</dcterms:created>
  <dc:creator>Andy Blanks</dc:creator>
  <dc:description/>
  <dc:language>en-US</dc:language>
  <cp:lastModifiedBy>Andy Blanks</cp:lastModifiedBy>
  <dcterms:modified xsi:type="dcterms:W3CDTF">2014-06-11T22:18:16Z</dcterms:modified>
  <cp:revision>1</cp:revision>
  <dc:subject/>
  <dc:title>The Fast Food Game</dc:title>
</cp:coreProperties>
</file>