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C44-14FB-43F7-8C04-ADE45DA0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5F4-161A-4F65-A46C-1EC5867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3C3-CEEE-457C-99E4-710F8C5A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CFE-6CBE-43A7-805D-DC8DF5F7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D4D-9A22-4004-8457-B2DC789C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584-B13F-46C4-A3A4-E98BE07B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803-98AF-4155-B1BD-78C1307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CEB-C222-4B34-942F-4CD7C3A6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1B7-E5FE-40ED-ACDE-14314F2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E6F-D7B8-4CEE-BC6C-26F3E64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F7E-D00F-4FE9-872B-56FD92F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E75-F789-406B-B415-0125B567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47A25-A486-4F4A-80EF-1BD608902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4417F-2971-47D4-88BB-32BDFF162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2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ower To Change The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0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enario 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You’ve been granted the power to change all restaurants to one type. Would you choose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3930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food burger j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akh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hi restau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enario 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You’ve been granted the power to eliminate one musician from the music scene. Would you choose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3930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in Bie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ylor Sw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songs from the movi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o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enario 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You’ve been granted the power to eliminate one class from your school. Would you choose…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3930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 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64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enario 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You’ve been granted the power to eliminate one health issue from the face of the earth. Would you choose…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417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impossible to reach itches on your 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95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enario 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You’ve been granted the power to give something away to every person in the world. Would you choose…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417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llege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9:47:18Z</dcterms:created>
  <dc:creator>Andy Blanks</dc:creator>
  <dc:description/>
  <dc:language>en-US</dc:language>
  <cp:lastModifiedBy>Andy Blanks</cp:lastModifiedBy>
  <dcterms:modified xsi:type="dcterms:W3CDTF">2014-06-11T19:55:38Z</dcterms:modified>
  <cp:revision>1</cp:revision>
  <dc:subject/>
  <dc:title>The Power To Change The World</dc:title>
</cp:coreProperties>
</file>